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66D-19BF-4DC1-8477-A4507AE6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DB4-708D-401A-A180-E64EA7D0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58D-9E1C-4F6C-B194-A05F7FC7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DDE-CA7C-432B-92D5-50147EC3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60F5-A65F-4945-B0EF-9E8C70E9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B3E7-8D95-4AAA-B71D-38433500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C865-35BC-4FDD-952E-454A1518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5237-8FED-4055-805B-6AE5B454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D656-8A9B-45AE-8685-A7C8B216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1D83-2B12-464B-9F8E-6791CE69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5DF2-7B33-4D2D-85D8-37A01561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C3D-28F1-4531-85E5-0E36D506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6C35-37C8-4CCA-86A5-13525A26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96E1-7262-4612-9C99-A3A30E3B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E33C-0347-470C-BD45-AF01C8FB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0F2D-FC45-43CB-ABB8-1513F908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2E71-9DF3-4133-BEAA-2BD9AAB9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445-B003-4928-BCA1-DCE28365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D3F-130B-4F85-9E78-D40BDE63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4DF-2234-4409-8D78-8CA272D3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733-CA2B-499C-BCA0-FE0E6F5C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F7E-D388-4A16-97E3-BCD8227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F9F-D4B3-49FF-A289-EA081A6D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1DA-734C-49FF-A291-0767994C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E08E-CBA8-458B-8DA7-31F1A0014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F41A-6876-4D64-A027-84051D151438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hyperlink" Target="Macintosh HD:Applications:Internet Explorer.app" TargetMode="External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ct"/><Relationship Id="rId7" Type="http://schemas.openxmlformats.org/officeDocument/2006/relationships/hyperlink" Target="Macintosh HD:Applications:Internet Explorer.app" TargetMode="External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hyperlink" Target="Macintosh HD:Applications:Internet Explorer.app" TargetMode="External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hyperlink" Target="Macintosh HD:Applications:Internet Explorer.app" TargetMode="External"/><Relationship Id="rId5" Type="http://schemas.openxmlformats.org/officeDocument/2006/relationships/image" Target="../media/image6.pct"/><Relationship Id="rId6" Type="http://schemas.openxmlformats.org/officeDocument/2006/relationships/hyperlink" Target="Macintosh HD:Internet:Internet Applications:Microsoft Internet 5:Internet Explorer 5 Folder:Internet Explorer" TargetMode="External"/><Relationship Id="rId7" Type="http://schemas.openxmlformats.org/officeDocument/2006/relationships/oleObject" Target="../embeddings/oleObject3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hyperlink" Target="http://staff.howard.k12.md.us/~despitia/webq/webq.html" TargetMode="External"/><Relationship Id="rId4" Type="http://schemas.openxmlformats.org/officeDocument/2006/relationships/hyperlink" Target="http://staff.howard.k12.md.us/~despitia/webq/webq.html" TargetMode="External"/><Relationship Id="rId5" Type="http://schemas.openxmlformats.org/officeDocument/2006/relationships/hyperlink" Target="http://staff.howard.k12.md.us/~despitia/webq/webq.html" TargetMode="External"/><Relationship Id="rId6" Type="http://schemas.openxmlformats.org/officeDocument/2006/relationships/hyperlink" Target="Macintosh HD:Applications:Safari.app" TargetMode="Externa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hyperlink" Target="Macintosh HD:Applications:Safari.app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hyperlink" Target="Macintosh HD:Applications:Safari.app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hyperlink" Target="Macintosh HD:Applications:Safari.app" TargetMode="Externa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hyperlink" Target="Macintosh HD:Applications:Safari.app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hyperlink" Target="Macintosh HD:Applications:Safari.app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hyperlink" Target="Macintosh HD:Internet:Internet Applications:Netscape Communicator&#8482; Folder:Netscape Communicator&#8482;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staff.howard.k12.md.us/~despitia/dod/muertos2.html" TargetMode="External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hyperlink" Target="Macintosh HD:Applications:Internet Explorer.app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hyperlink" Target="Macintosh HD:Applications:Internet Explorer.app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hyperlink" Target="Macintosh HD:Applications:Internet Explorer.app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55760" y="0"/>
            <a:ext cx="65660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7983360" y="5465880"/>
          <a:ext cx="1155960" cy="13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83360" y="5465880"/>
                    <a:ext cx="115596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7843680" y="5473800"/>
            <a:ext cx="1067040" cy="1371600"/>
          </a:xfrm>
          <a:custGeom>
            <a:avLst/>
            <a:gdLst>
              <a:gd name="textAreaLeft" fmla="*/ 69120 w 1067040"/>
              <a:gd name="textAreaRight" fmla="*/ 997920 w 106704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63">
                <a:moveTo>
                  <a:pt x="0" y="0"/>
                </a:moveTo>
                <a:lnTo>
                  <a:pt x="21600" y="0"/>
                </a:lnTo>
                <a:lnTo>
                  <a:pt x="21600" y="27763"/>
                </a:lnTo>
                <a:lnTo>
                  <a:pt x="0" y="27763"/>
                </a:lnTo>
                <a:close/>
              </a:path>
              <a:path fill="lightenLess" w="21600" h="27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3">
                <a:moveTo>
                  <a:pt x="21600" y="0"/>
                </a:moveTo>
                <a:lnTo>
                  <a:pt x="21600" y="27763"/>
                </a:lnTo>
                <a:lnTo>
                  <a:pt x="20200" y="26363"/>
                </a:lnTo>
                <a:lnTo>
                  <a:pt x="20200" y="1400"/>
                </a:lnTo>
                <a:close/>
              </a:path>
              <a:path fill="darkenLess" w="21600" h="27763">
                <a:moveTo>
                  <a:pt x="21600" y="27763"/>
                </a:moveTo>
                <a:lnTo>
                  <a:pt x="0" y="27763"/>
                </a:lnTo>
                <a:lnTo>
                  <a:pt x="1400" y="26363"/>
                </a:lnTo>
                <a:lnTo>
                  <a:pt x="20200" y="26363"/>
                </a:lnTo>
                <a:close/>
              </a:path>
              <a:path fill="lighten" w="21600" h="27763">
                <a:moveTo>
                  <a:pt x="0" y="27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LEARNING ADV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324480" y="2209680"/>
          <a:ext cx="2286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09680"/>
                    <a:ext cx="2286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1103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ime 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Graphing/Statis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Graphic Organiz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eading Strateg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riting Strateg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Problem-solving Strateg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5521320"/>
          <a:ext cx="129852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2132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>
            <a:hlinkClick r:id="rId5"/>
          </p:cNvPr>
          <p:cNvSpPr/>
          <p:nvPr/>
        </p:nvSpPr>
        <p:spPr>
          <a:xfrm>
            <a:off x="88920" y="548640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867280" y="1600200"/>
          <a:ext cx="1828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600200"/>
                    <a:ext cx="1828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962520"/>
          <a:ext cx="1905120" cy="17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62520"/>
                    <a:ext cx="190512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2133360"/>
            <a:ext cx="54104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404640" indent="-4046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net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Ema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Message Bo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Video Conferenc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hat Roo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5600" y="5514840"/>
          <a:ext cx="1298520" cy="107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" y="551484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>
            <a:hlinkClick r:id="rId7"/>
          </p:cNvPr>
          <p:cNvSpPr/>
          <p:nvPr/>
        </p:nvSpPr>
        <p:spPr>
          <a:xfrm>
            <a:off x="3445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7162920" y="609480"/>
            <a:ext cx="1360440" cy="2274840"/>
            <a:chOff x="7162920" y="609480"/>
            <a:chExt cx="1360440" cy="2274840"/>
          </a:xfrm>
        </p:grpSpPr>
        <p:graphicFrame>
          <p:nvGraphicFramePr>
            <p:cNvPr id="170" name=""/>
            <p:cNvGraphicFramePr/>
            <p:nvPr/>
          </p:nvGraphicFramePr>
          <p:xfrm>
            <a:off x="7162920" y="609480"/>
            <a:ext cx="1360440" cy="227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2920" y="609480"/>
                      <a:ext cx="1360440" cy="22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 txBox="1"/>
            <p:nvPr/>
          </p:nvSpPr>
          <p:spPr>
            <a:xfrm>
              <a:off x="7543800" y="914400"/>
              <a:ext cx="533520" cy="228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UEN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7467480" y="914400"/>
              <a:ext cx="685800" cy="457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RABAJO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EVALU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6781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37040" indent="-437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imes New Roman"/>
              </a:rPr>
              <a:t>Understanding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of cont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imes New Roman"/>
              </a:rPr>
              <a:t>Proficiency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with a skill or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imes New Roman"/>
              </a:rPr>
              <a:t>Quality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of a product or perform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705720" y="1600200"/>
            <a:ext cx="53316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EN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5600" y="5514840"/>
          <a:ext cx="129852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" y="551484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>
            <a:hlinkClick r:id="rId5"/>
          </p:cNvPr>
          <p:cNvSpPr/>
          <p:nvPr/>
        </p:nvSpPr>
        <p:spPr>
          <a:xfrm>
            <a:off x="3445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90920" y="1900080"/>
            <a:ext cx="3962160" cy="3988080"/>
            <a:chOff x="2590920" y="1900080"/>
            <a:chExt cx="3962160" cy="3988080"/>
          </a:xfrm>
        </p:grpSpPr>
        <p:graphicFrame>
          <p:nvGraphicFramePr>
            <p:cNvPr id="184" name=""/>
            <p:cNvGraphicFramePr/>
            <p:nvPr/>
          </p:nvGraphicFramePr>
          <p:xfrm>
            <a:off x="2590920" y="1900080"/>
            <a:ext cx="3962160" cy="398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1900080"/>
                      <a:ext cx="3962160" cy="39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 txBox="1"/>
            <p:nvPr/>
          </p:nvSpPr>
          <p:spPr>
            <a:xfrm>
              <a:off x="3816360" y="2260440"/>
              <a:ext cx="13971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AHA!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aphicFrame>
        <p:nvGraphicFramePr>
          <p:cNvPr id="187" name=""/>
          <p:cNvGraphicFramePr/>
          <p:nvPr/>
        </p:nvGraphicFramePr>
        <p:xfrm>
          <a:off x="255600" y="5514840"/>
          <a:ext cx="129852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>
                    <a:hlinkClick r:id="rId4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" y="551484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>
            <a:hlinkClick r:id="rId6"/>
          </p:cNvPr>
          <p:cNvSpPr/>
          <p:nvPr/>
        </p:nvSpPr>
        <p:spPr>
          <a:xfrm>
            <a:off x="3445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0720" y="97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MAKES AN EFFECTIVE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574720"/>
            <a:ext cx="91440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66ff"/>
                </a:solidFill>
                <a:uFillTx/>
                <a:latin typeface="Stone Sans SC ITC TT-Semi"/>
                <a:hlinkClick r:id="rId3"/>
              </a:rPr>
              <a:t>http://staff.howard.k12.md.</a:t>
            </a:r>
            <a:r>
              <a:rPr b="0" lang="en-US" sz="5400" spc="-1" strike="noStrike" u="sng">
                <a:solidFill>
                  <a:srgbClr val="cc66ff"/>
                </a:solidFill>
                <a:uFillTx/>
                <a:latin typeface="Stone Sans SC ITC TT-Semi"/>
                <a:hlinkClick r:id="rId4"/>
              </a:rPr>
              <a:t>us/~despitia/webq/webq</a:t>
            </a:r>
            <a:r>
              <a:rPr b="0" lang="en-US" sz="5400" spc="-1" strike="noStrike" u="sng">
                <a:solidFill>
                  <a:srgbClr val="cc66ff"/>
                </a:solidFill>
                <a:uFillTx/>
                <a:latin typeface="Stone Sans SC ITC TT-Semi"/>
                <a:hlinkClick r:id="rId5"/>
              </a:rPr>
              <a:t>.htm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rId6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0720" y="97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MAKES AN EFFECTIVE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92120" y="2350800"/>
            <a:ext cx="6167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im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tructur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operativ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Higher-orde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ctivist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rId3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851280" y="1311120"/>
          <a:ext cx="444492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311120"/>
                    <a:ext cx="4444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UDENT MOTIV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90680" y="2188800"/>
            <a:ext cx="6508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5120" indent="-46512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entral Questio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>
            <a:hlinkClick r:id="rId5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3851280" y="1311120"/>
          <a:ext cx="444492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311120"/>
                    <a:ext cx="4444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7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ENTRAL QUES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6680" y="1920600"/>
            <a:ext cx="6508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83680" indent="-2836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orld Probl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Evaluation of hi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reation of a produ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Life’s rea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maginatio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>
            <a:hlinkClick r:id="rId5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851280" y="1311120"/>
          <a:ext cx="444492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311120"/>
                    <a:ext cx="4444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UDENT MOTIV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90680" y="2188800"/>
            <a:ext cx="6508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357840" indent="-35784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entral Questio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-35784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o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-35784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eal Resour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-35784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eal Aud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>
            <a:hlinkClick r:id="rId5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2603520" y="2165400"/>
          <a:ext cx="404352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3520" y="2165400"/>
                    <a:ext cx="404352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1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FOR FURTHER STUDY . . 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90320" y="2188800"/>
            <a:ext cx="6885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376560" indent="-37656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ctivism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76560" indent="-37656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Performance Assess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40960" indent="-371160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ay McTig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40960" indent="-371160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Grant Wigg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>
            <a:hlinkClick r:id="rId5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IS A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00200" y="1981080"/>
          <a:ext cx="601992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601992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0720" y="97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BUILDING A WEBQUES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82920" y="2279520"/>
            <a:ext cx="466416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op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entral Ques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esour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Learn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ubr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78487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260360" y="1954080"/>
          <a:ext cx="1032120" cy="420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0360" y="1954080"/>
                    <a:ext cx="103212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IS A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2480" y="22856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A WebQuest is an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imes New Roman"/>
              </a:rPr>
              <a:t>inquiry-oriented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activity in which most or all of the information used by learners is drawn from the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imes New Roman"/>
              </a:rPr>
              <a:t>Web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934320" y="5546880"/>
          <a:ext cx="1981080" cy="109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5546880"/>
                    <a:ext cx="1981080" cy="10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IS A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9320" y="21067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  <a:ea typeface="Times New Roman"/>
              </a:rPr>
              <a:t>GO FET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934320" y="5546880"/>
          <a:ext cx="1981080" cy="109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5546880"/>
                    <a:ext cx="1981080" cy="10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720960" y="1741320"/>
            <a:ext cx="1482840" cy="1473480"/>
          </a:xfrm>
          <a:prstGeom prst="noSmoking">
            <a:avLst>
              <a:gd name="adj" fmla="val 4763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193840" y="2913120"/>
          <a:ext cx="4484880" cy="32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3840" y="2913120"/>
                    <a:ext cx="44848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>
            <a:hlinkClick r:id="rId5"/>
          </p:cNvPr>
          <p:cNvSpPr/>
          <p:nvPr/>
        </p:nvSpPr>
        <p:spPr>
          <a:xfrm>
            <a:off x="7043760" y="5479920"/>
            <a:ext cx="1871640" cy="1371600"/>
          </a:xfrm>
          <a:custGeom>
            <a:avLst/>
            <a:gdLst>
              <a:gd name="textAreaLeft" fmla="*/ 88560 w 1871640"/>
              <a:gd name="textAreaRight" fmla="*/ 1783080 w 187164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9473" h="21600">
                <a:moveTo>
                  <a:pt x="0" y="0"/>
                </a:moveTo>
                <a:lnTo>
                  <a:pt x="29473" y="0"/>
                </a:lnTo>
                <a:lnTo>
                  <a:pt x="29473" y="21600"/>
                </a:lnTo>
                <a:lnTo>
                  <a:pt x="0" y="21600"/>
                </a:lnTo>
                <a:close/>
              </a:path>
              <a:path fill="lightenLess" w="29473" h="21600">
                <a:moveTo>
                  <a:pt x="0" y="0"/>
                </a:moveTo>
                <a:lnTo>
                  <a:pt x="29473" y="0"/>
                </a:lnTo>
                <a:lnTo>
                  <a:pt x="28073" y="1400"/>
                </a:lnTo>
                <a:lnTo>
                  <a:pt x="1400" y="1400"/>
                </a:lnTo>
                <a:close/>
              </a:path>
              <a:path fill="darken" w="29473" h="21600">
                <a:moveTo>
                  <a:pt x="29473" y="0"/>
                </a:moveTo>
                <a:lnTo>
                  <a:pt x="29473" y="21600"/>
                </a:lnTo>
                <a:lnTo>
                  <a:pt x="28073" y="20200"/>
                </a:lnTo>
                <a:lnTo>
                  <a:pt x="28073" y="1400"/>
                </a:lnTo>
                <a:close/>
              </a:path>
              <a:path fill="darkenLess" w="29473" h="21600">
                <a:moveTo>
                  <a:pt x="29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3" y="20200"/>
                </a:lnTo>
                <a:close/>
              </a:path>
              <a:path fill="lighten" w="29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IS A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Bernie Dod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Tom M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934320" y="5546880"/>
          <a:ext cx="1981080" cy="109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5546880"/>
                    <a:ext cx="1981080" cy="10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IS A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6804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348840" indent="-348840" algn="just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Short-ter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78680" indent="-343800" algn="just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Knowledge Acqui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78680" indent="-343800" algn="just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 algn="just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Long-ter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78680" indent="-343800" algn="just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xtending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78680" indent="-343800" algn="just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ef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934320" y="5546880"/>
          <a:ext cx="1981080" cy="109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5546880"/>
                    <a:ext cx="1981080" cy="10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2590920" y="1900080"/>
            <a:ext cx="3962160" cy="3988080"/>
            <a:chOff x="2590920" y="1900080"/>
            <a:chExt cx="3962160" cy="3988080"/>
          </a:xfrm>
        </p:grpSpPr>
        <p:graphicFrame>
          <p:nvGraphicFramePr>
            <p:cNvPr id="126" name=""/>
            <p:cNvGraphicFramePr/>
            <p:nvPr/>
          </p:nvGraphicFramePr>
          <p:xfrm>
            <a:off x="2590920" y="1900080"/>
            <a:ext cx="3962160" cy="3988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90920" y="1900080"/>
                      <a:ext cx="3962160" cy="39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 txBox="1"/>
            <p:nvPr/>
          </p:nvSpPr>
          <p:spPr>
            <a:xfrm>
              <a:off x="3816360" y="2260440"/>
              <a:ext cx="13971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DUH?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aphicFrame>
        <p:nvGraphicFramePr>
          <p:cNvPr id="129" name=""/>
          <p:cNvGraphicFramePr/>
          <p:nvPr/>
        </p:nvGraphicFramePr>
        <p:xfrm>
          <a:off x="255600" y="5521320"/>
          <a:ext cx="1298520" cy="1073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5600" y="552132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>
            <a:hlinkClick r:id="rId8"/>
          </p:cNvPr>
          <p:cNvSpPr/>
          <p:nvPr/>
        </p:nvSpPr>
        <p:spPr>
          <a:xfrm>
            <a:off x="344520" y="548640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3962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mp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ete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ys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ournal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reative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905120"/>
            <a:ext cx="4800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nsensus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ersu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elf-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Analy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ud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ient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5600" y="5514840"/>
          <a:ext cx="129852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551484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>
            <a:hlinkClick r:id="rId3"/>
          </p:cNvPr>
          <p:cNvSpPr/>
          <p:nvPr/>
        </p:nvSpPr>
        <p:spPr>
          <a:xfrm>
            <a:off x="3445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PROCE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4572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455760" indent="-231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mpare/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55760" indent="-231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pt Cre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55760" indent="-231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55760" indent="-231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y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55760" indent="-231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ummariz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2743200"/>
            <a:ext cx="4190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65120" indent="-236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65120" indent="-236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roblem-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65120" indent="-236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ecision-m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65120" indent="-236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olicy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651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9051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lvl="2" marL="19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4221000"/>
                <a:tab algn="r" pos="840744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NPU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imes New Roman"/>
              </a:rPr>
              <a:t>TRANSFORMATI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5600" y="5514840"/>
          <a:ext cx="129852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551484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>
            <a:hlinkClick r:id="rId3"/>
          </p:cNvPr>
          <p:cNvSpPr/>
          <p:nvPr/>
        </p:nvSpPr>
        <p:spPr>
          <a:xfrm>
            <a:off x="3445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6:54:02Z</dcterms:created>
  <dc:creator>d</dc:creator>
  <dc:description/>
  <dc:language>en-US</dc:language>
  <cp:lastModifiedBy>Howard County Public Schools</cp:lastModifiedBy>
  <dcterms:modified xsi:type="dcterms:W3CDTF">2008-07-16T11:22:47Z</dcterms:modified>
  <cp:revision>100</cp:revision>
  <dc:subject/>
  <dc:title>WHY WEBQUESTS?</dc:title>
</cp:coreProperties>
</file>